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E79-B891-4AE4-A5E0-3813E76F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60E-A7DB-4C88-BBE1-4F5973A0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48747-EC62-40CC-A515-C3D7A680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F84E8-053A-4204-BBC0-5E6B8249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EB6B2-C092-4619-A220-8BA79BCB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FE44B-A729-4B15-B90A-1CFFF06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CE404-234D-4ADD-9026-6C73EBE4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A57AD-0689-48F0-9EFD-D0F63F0E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A52DA-DC6D-460D-ACE6-A8ED1D95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7EF9F-C112-4BFF-ADEA-B60DBA50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F7BF1-73F9-4229-AE96-B760FC61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E975F-6AA8-4FED-A752-8663E048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BD7-F0CE-4D22-817D-20BDE6B9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26F28-9868-441C-8B06-A698432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AC753-B2FC-4E09-8ADA-5461414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32A8F-6634-40F5-98E6-AFB2C5B9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4BA08-B0E9-4C82-B27B-8D46F437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A6D9F-3BC4-4319-829D-DC4B6FC1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A27AF-1B4C-45A0-9742-C51F843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87BE1-9F41-4953-9A08-A150383A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67BB9-DFE2-45E1-A074-427FAC0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505BD-964F-4D3F-A983-2EABA1FB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E9FDA-22B1-4136-ADD2-B3549FB6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D55-BFF9-42B0-A1F6-A2434041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11087-1572-4E34-8D39-35323752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DF439-52CE-48F7-ACC0-68A3FDAE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2F47F-70C5-4934-ACC6-B6A41F95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ED4F1-3008-46DC-A5FB-96B35374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AAF8D-FB49-4F61-A6FB-0BBAAFC8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563A9-1DD6-492B-9F7F-7B771D82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A79A2-165D-4CDA-84B5-A6FEE0F7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2354E-405F-45FE-BE85-44EA4FCC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6022E-13B6-4922-B359-7C24D44E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BCEEB-36FB-465E-9960-C88D33DA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6AA3-01A9-4606-8409-E07B4069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8C0D0-D06A-47B1-BC7E-B32506A3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FEE2D-DECA-48DC-83D9-A7ED7F69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5A51E-47E4-4D71-A378-11267A07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FBB0F-EECE-44A1-BEF1-6F63D307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BDED7-F283-4EAD-911B-3A3EAE5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292FE-808C-480E-987D-8E02C722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F3B59-11EA-4712-9478-7C185163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70E89-48FD-473E-92E9-C944B172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21266-CD5B-41C4-A0F6-5C72583A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4E3D1-EC90-4DB2-8B45-C1873C47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6834-AC2E-4962-96E8-768CB9E8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ACED9-C5DB-4A98-9964-5A30E61B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9470C-9B88-482F-A211-C95CFA33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E101B-8FB0-4F98-8A3D-1EA3455F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D9599-F3E6-4881-A72F-0079B35B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38F5F-A56F-42C7-9DAA-CC1BCC3E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3B60E-1D9F-47E9-B945-A17B5C12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6F029-879E-4FBD-94D8-467B0D2A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09C54-9C02-4F47-8F4F-8EB62D5F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9332B-98BE-4581-A925-E184590A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72297-654C-486A-A068-3C5A3EC6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5D96-DDB7-490C-9048-815E41D7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2195A-21EC-45A6-8B90-8539030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F6940-25FE-48E8-994F-AE05B36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44880-BAB4-4538-9588-1CFA0633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CD96A-0E7C-4B1E-B804-712A5EEE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A2290-6D76-4655-8F90-DEC25551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6BDE5-8757-4851-B9B2-6E902F54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9814C-2771-49F8-AEE6-7ABE33C5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97250-701C-4720-9C17-1EAA7026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50715-CBFE-4A34-A67D-5871A757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B1A69-5795-432E-AB79-172C75B7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DD0B-1B26-4A4E-BEF8-AE102FFA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8E1CC-1314-44A3-8CE7-A0CF9CA6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ABB00-B6F3-48B4-9CB9-2ED792E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6ED6E-3A5E-4733-8939-95D71712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298D9-8217-4111-A789-01E2A8D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C16D4-67A9-4716-8177-70B96299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B56B3-9E06-409D-BCAB-C515ECA2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E3ECE-9C3B-4095-9102-DE00610B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4EAAB-9A3B-4E0B-ACE6-0D70CF19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3CC71-FBC1-42E5-A661-35485374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5E7DF-6493-4B25-9BD6-90BE17D1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EA0A-7D9D-47AE-8F95-69B7ACD4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99ABD-E59F-4A1F-8D56-C1A433FC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31C1E-79D8-424D-B69D-5EF75D8F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96B38-4ED2-46FA-B8C6-3D471B4E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C5F5A-13F5-48C7-8557-C2B0946F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0F77E-182D-479E-A483-31B96956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CC577-81B8-4E2F-BFA7-003631D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7AB14-389B-4183-A505-E67FF50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B3E01-F2EC-4DDA-83F8-376FD96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FB042-989B-4FD2-8F20-9C36E1A1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66B76-9E03-4D7A-96ED-83C808E8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4338-BDBD-479D-B09C-E8B304B3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744E9-2DCE-4E8F-8476-66402E2E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B91E4-40D7-4A9D-98AD-ADB98225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9086D-1583-419E-BB2A-069E3DFA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7A54D-7667-493E-8B16-77042CA7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A4ECC-9859-4807-A1A2-AB614BFD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6862D-E493-4884-8B1C-27D21101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CF1C3-B9E1-46A6-A915-1BDF231D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021F9-D521-4A96-BF23-6467C12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23FF3-7111-4B91-BA82-D855772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B1B46-7361-4F04-A888-E6E36175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17EA-CAF0-4C88-A6F2-FA949487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969B3-76F2-467A-82E1-37DD151A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5770E-0C67-409C-A1F4-2E4E3DDB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B7310-C580-4255-8AD1-8F0022DE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768F1-7AB8-419E-B1FC-46C0B922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EE027-9563-4713-A93E-D71FA3EB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DFC91-C0AB-45A0-B818-811EDCFC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D33CA-51A4-4BB9-BC0E-63677E31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9C278-A234-4436-9638-51F55E50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385BE-D2E3-45F6-8A11-2327A2DD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05FB3-635B-4F7A-9D6B-9A315195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AD9-B911-4353-A825-7C5CB35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0B39-2567-4F53-82FB-AE4A12AA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ABDD5-8A48-40AD-ABE1-E4B33040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8F512-C2B9-41EE-9AE3-D868236C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C0F68-814F-4108-B477-19B31DEA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E19EA-E9FF-42B1-A796-656B51A8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CFD08-4F63-438B-9A01-AFB8606A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2CC4E-B3D1-43D4-93F2-7716003E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DED51-D133-481C-ABF1-B2E07D12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253C2-F151-4D7E-AE78-9E719D1C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A3814-05D5-44BB-AB01-59EE94BB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20B03-7793-439A-AC82-2712029B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8D6A-0301-4E6C-93FA-0EFF50F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5784F-1FCB-4B79-9097-0998FB8E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0EA7C-0FE7-4281-8C39-A0D9281C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4003F-601A-4F94-9ABD-C442F37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B03B8-1038-4F3D-B6D5-8A02572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8F1EC-3FD5-4D8A-A509-E8EC22E0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C8267-3AE2-4F45-AC65-B294B95A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FF65C-1D03-4568-901D-19A916B8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A8141-6384-4E6E-9950-2FC04CE0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7A27C-4F2C-4ED6-932E-E499C0CB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52D88-73BE-4493-A3EE-A7040137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8067-3E75-47BF-863E-F5970824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F004A-EA3C-4082-BCC4-1EFDCCDF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63E6D-2C4D-4B64-AFAD-53EDA22E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B2716-1CA2-4C64-BBC9-76B450B8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5A674-A74C-4500-A749-C09B82B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7A852-DEFC-42D3-9B2E-B8460F1C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301A4B-10E5-4A42-8340-BEA93BA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C99A8-9A2F-4759-8BBC-C9260835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33C2C-3875-46B2-A5BB-487CECCB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54EE9-A907-4BE3-80B9-14A51EC6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4E2D4-7AB4-4562-BA6B-18FF49B7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4520-F78F-4DDB-9DD2-89E0708B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C96E3-7EF2-482F-8A35-9F989F4A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5E572-B8F2-47E1-9095-20360B83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6766E-9883-4312-B8AE-0053D06C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FB12A-2EC7-48D0-AB51-5D97B394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E5820-CBCA-457C-8D6C-EE5E0650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9FB33-DC6D-44E0-AEB8-4EC03E7A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EE8916-1C92-4C3A-865C-3203DC5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3FFDF-B422-4FFA-8AD2-9C3BA84B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57D77-D467-4038-8917-2A23C77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CE30EF-55E6-44B5-BB6E-956E90DB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27B8-72EE-4779-B54A-21D364FA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6F7CF-8A1C-4B28-9774-0B704E8C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70143-A187-4520-B1A3-946C7304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D0771-F7D6-4B45-9867-A5AD9906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383E3-0C4C-4667-807E-7E0BAC6B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10BCF-3732-42C3-8B43-0F0D019F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793FA-2C40-4F9F-AD8E-BC6C7670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E73D6-632D-49D4-B667-CB29DC7F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2F17D3-D8CB-4D10-A2B4-1968629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CB34B-F7AC-4704-A245-F8659C8D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09A3D-4E9E-45E2-8606-C129F6E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3CCF-DAF6-4DAF-961C-8DEBA16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E0858C-61F1-482E-AA04-1E045238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4803B0-B100-4DCA-BAA5-012DC76E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7F8F6-852E-496B-9A4F-89D01DCE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C73D-D899-400D-B744-3F6148BA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FEB1-BB9C-4AB2-B8AF-50F39B9F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31DAE-E254-4E6B-843D-AAA2FDB7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EA91-169D-4BAF-B283-EA5C55DB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645-FEE4-4199-BA70-2B771009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0981-ABA3-4569-8AB6-9414B923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26D4-BDC4-4B69-B567-A8B08954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FD45-1A9B-41FD-AFBB-179F6E71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17DD-68DE-4432-9F86-61075090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7754-80C8-4388-9C3D-0EDB4972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AB5B-DD73-42DA-BC23-23F49BF0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F0FC-68DA-4C4F-BAA2-5A03A2CA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DDE4-68D3-463D-88AF-79B0D389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605E-82A4-4513-A99D-2EE1B47B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2D36-6A60-4701-8000-126E50D6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91C-367B-4590-8F58-FF646E7A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C052-0512-49D5-B292-647B4362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42E6-7124-45F7-A065-582CF3C2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A643-F306-4FC4-BB7A-64236D24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16E0B-6875-4C01-880A-9FE26609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FF317-67F0-4BDC-A880-0D72D8A0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B795-EB4A-4722-9F92-436086F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C8E5-ED4E-4112-A766-6265F3A5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1313-CF4C-46BE-B5BF-98AB32EB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5024-A9F7-4E55-9DB7-57C3D494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DB9A1-0096-48E3-A83A-BDB845B5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9FF-A94E-468E-B738-F037275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2EB39-D03B-485A-8766-E7D00924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79EB-008E-440A-9F1B-3FA3BD78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20FA-EA46-4465-9E4A-59D8E3C7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50DC4-689D-4DB3-93C8-D6904CA0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56D07-70C5-41AD-B5F2-BD623E9F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EEFE2-1C09-412E-84B8-15BBE5E8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FD05-81E5-4F50-A145-B58AF02F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69D7-FFD2-423A-98AB-F8F26B66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B929C-5E1E-4688-A1E5-F63334F1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6341-E677-4E60-AE74-19034AA8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6FB-E063-45E0-8117-4371FFDD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56AF6-D119-40C7-B0F9-F8A6AF98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A2ECF-147F-473A-8E5E-9C267225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29CD9-32D1-461F-AB59-3AE4DCB9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6853-6C28-45B9-9000-5A142867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0FB0-C4A5-4F51-9AC8-52849CC3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28F6-7051-4FD1-A846-A5EFBDC5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C8EB0-042B-4562-9273-CD95E658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BF727-B86F-4EEB-B1BF-BE69D470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DCB88-BE79-4EE0-9324-05F4375F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DF7EA-07C5-4734-8A65-2EB64841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A13-344C-4F38-9904-980B13E7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5E09-B0AE-4AF6-B3FD-6BC449C3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FE44D-5AEF-4F1D-8F83-50F3B0E0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CD2C9-0316-4F14-8A8D-49996D5B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AF47C-992C-4AAF-BA1D-8A003071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FB13F-DA35-43BF-BD7E-775BA624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EB160-DCA6-4201-A73F-EBC0A73F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9CD0B-E94B-48B6-8B5C-B5777D88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53371-0FC7-4471-AC40-89149062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2B8C5-1A0E-42A9-8DAF-96B31451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5C82E-305F-40FD-BEC6-7465261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BAA-3DA4-4C5A-93FA-A44CFB11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2074E-8722-4F42-A26D-AB94F6AF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A6115-674C-46D8-BC2A-A66F62C0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FCE24-9052-403A-BE25-F2E73484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F831F-4189-4669-9E86-BCE49C41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0436E-07A8-4AC6-9A88-A3820AB8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6CF33-ED28-4479-A758-E3CFA6E0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1F3DC-B796-4CFD-B216-BC05F6CA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69E9A-49B0-4DF7-9CF4-44D182A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E3BE4-6F9A-4945-B159-F9A97B56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3E64F-8FCB-423A-A02B-11354532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085-51F9-4340-8E9F-8A8BD264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E3D2A-1615-4D58-AF3A-E800C5DA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1C399-C773-4732-8BBD-D58E641B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23ACD-625C-4DAB-B9FC-310B669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609F1-94B0-4976-AF34-D2C949B7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94321-A698-4727-BAC9-E7B3D684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C2E74-FDFD-4757-83D7-370B2EA9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0AEED-A26A-4A15-B2B8-F83832C0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A5A62-7BAE-48F8-9E94-774A31FC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0A2D2-8355-42D9-B496-FA8FEC0C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0AFC5-8CF7-430F-A791-9AECB065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E2F9-D928-47FD-9590-6A119A8FFF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DBA8-9EF4-47B5-8E6A-ED7E72C07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79B6-9E30-434E-899C-1F9AFAD5DF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C409-C5C4-41A8-80E7-CFC3B2F236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CC45-F979-47E7-96E9-F7A12C5A12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5948-5602-4208-950B-F5E8988DC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52C4-47A9-4787-81C3-3F534A758B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F991-040E-4F50-A52F-DDE39C8B44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A753-3CC5-4BC3-B52F-08F1E12F39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701C-11A3-4A80-8041-12F3A6E5D8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1B45-0A7C-49B8-A47F-24E5AA9559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B868-583D-46F0-95F6-D3B5ECC20B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72B9-762D-49F3-86FE-62B88C716F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83AB-A063-43D2-9F2A-3A138CC339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79B-60D6-4C21-B10D-CF05FFDD29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70D2-2822-449C-9F08-0219AB6725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908A-3D85-4B3D-8DC1-158F03643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B710-A9F5-4620-9E53-465D8B2DDD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8D74-8BED-4A17-A76A-117A56F1B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9513-9305-44B0-B2E9-F806DE918E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682C-0ED0-4182-8CE2-6A469B39C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619F-92E3-498B-B90C-7CE4D4A715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C6A-E4DA-4AB5-88D8-8C20911B9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BDA3-98D7-4C90-84A2-4E9CAA85F6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89C2-4532-4DAC-A0E7-95D6E8D34A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686E-8A36-47A7-87E6-D39EE4FCF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05D5-BE59-4D11-B54F-16361B26A8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532-F5C2-48E2-A4F0-A477486AA0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E614-5886-4299-AE49-21CF6D78B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9B93-6E7B-4C9D-86CC-4CE9A35CC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F06B-0494-42C7-8FDD-6073353537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D287-20E5-4C73-B868-8FB8F78C9B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7B7F-23DE-4897-8FBB-41661898F5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A484-F324-4C0C-8070-BE08F4E7CB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4B7D-15B9-4198-90CE-47CEBC97B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650E-5FF3-4811-B5A4-25A938B45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D21-AA64-4A7E-8251-9360EEAFD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3B07-DC0B-4E6D-8116-9C11E1F255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5D8B-A767-4CB6-B579-595E18BE4D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6CBD-6584-4DFB-AB25-464E93B9A8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57560" y="2928960"/>
            <a:ext cx="4628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9633" descr=""/>
          <p:cNvPicPr/>
          <p:nvPr/>
        </p:nvPicPr>
        <p:blipFill>
          <a:blip r:embed="rId1"/>
          <a:stretch/>
        </p:blipFill>
        <p:spPr>
          <a:xfrm>
            <a:off x="557280" y="1523880"/>
            <a:ext cx="8029440" cy="38102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64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876240" y="1268280"/>
            <a:ext cx="7391520" cy="2124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8610" descr=""/>
          <p:cNvPicPr/>
          <p:nvPr/>
        </p:nvPicPr>
        <p:blipFill>
          <a:blip r:embed="rId2"/>
          <a:stretch/>
        </p:blipFill>
        <p:spPr>
          <a:xfrm>
            <a:off x="95400" y="3548160"/>
            <a:ext cx="8953200" cy="22572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667640" y="155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457880" y="2421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667640" y="2492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2124000" y="401940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464080" y="3860640"/>
            <a:ext cx="863640" cy="792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8431200" y="3860640"/>
            <a:ext cx="684360" cy="792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1936800" y="4653000"/>
            <a:ext cx="684000" cy="7920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5479920" y="4724280"/>
            <a:ext cx="684360" cy="7923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8459640" y="4710240"/>
            <a:ext cx="684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2080" y="47520"/>
            <a:ext cx="8619840" cy="6762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276720" y="210348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364000" y="2349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580000" y="3213000"/>
            <a:ext cx="165600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284720" y="3860640"/>
            <a:ext cx="165564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419640" y="508464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448080" y="63230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04920" y="923760"/>
            <a:ext cx="8534160" cy="5010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348000" y="2276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6300720" y="47973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09480" y="1262160"/>
            <a:ext cx="7925040" cy="4333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093080" y="4365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1763640" y="249228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85840" y="880920"/>
            <a:ext cx="8572320" cy="5096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684360" y="288144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611280" y="417816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395280" y="479736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468360" y="5373720"/>
            <a:ext cx="828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95200" y="1395360"/>
            <a:ext cx="8553600" cy="406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770400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684360" y="3745080"/>
            <a:ext cx="770400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826920" y="4280040"/>
            <a:ext cx="770436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755640" y="4811760"/>
            <a:ext cx="7704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496000" cy="3914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712980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712944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898560" y="4221000"/>
            <a:ext cx="712944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826920" y="4797360"/>
            <a:ext cx="7129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314280" y="1119240"/>
            <a:ext cx="8515440" cy="461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612144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755640" y="4121280"/>
            <a:ext cx="612144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826920" y="4624560"/>
            <a:ext cx="612144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5640" y="5172120"/>
            <a:ext cx="6121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328680" y="1514520"/>
            <a:ext cx="8486640" cy="38289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54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684360" y="3832200"/>
            <a:ext cx="54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55640" y="4321080"/>
            <a:ext cx="547200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84360" y="4869000"/>
            <a:ext cx="547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6:3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